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F8F43-9AD7-4E7B-9623-9AC08F564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C876-B042-41D4-9AF6-BCC39DBE2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BF816-6A98-4EFD-9F62-738FE9961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C6409-250A-40A0-B002-9F3660086D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180B-48A1-4C5A-ACB4-F54196DA72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B1987-E5B4-4580-A5BA-69248CBB4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B8EA3-CA8E-4906-9468-D2D7290AF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1765E-592D-4BAA-A32B-C701B6893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EC7D6-47E3-45E8-B2CA-27E153C22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55B20-E0AC-4723-9808-2ADEB9573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A328E-88E4-4185-9CF0-40D6073FD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D23E9-D991-42AA-90B0-7E44B77A1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216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79280" y="6048360"/>
            <a:ext cx="70164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61760" y="6605640"/>
            <a:ext cx="237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u und Mythos -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23360" y="6570720"/>
            <a:ext cx="620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F3AF-8215-46FD-91B3-8D34DB6541D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5040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79280" y="4032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179280" y="3024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179280" y="2016000"/>
            <a:ext cx="701640" cy="9813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179280" y="100800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179280" y="0"/>
            <a:ext cx="70164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342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rau und Mythos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63280" y="4005360"/>
            <a:ext cx="593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2002 -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6BF4E-C15E-4586-97D1-4777C3661A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eitpla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54936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EA5BC-02D6-4608-B20A-1D7D8EEC89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27079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Bewertungskriteri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A5E8D-AD4C-4780-A4CC-3C37426435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durch die beteiligten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sfragebogen für die SchülerIn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wer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-Aktivitä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E4D58-E52E-4173-AC3B-B48B386206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Projekttea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3A A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B 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 RG Bru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 RG Me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d mehrere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6363-50EF-4C20-BEC2-48BEDC7EDD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iele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ssen über alte und neue Mythen erwei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eamarbeit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mmunikation und Kooperation online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elbstverantwortetes Lern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reativität und Information verbin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äsentieren und Visualisier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D471F-8FAA-4BE0-B8BC-545984C25B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as ist zu tun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354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ppen bil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os entwerf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idee entwickel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beitsteilung und Zusammenarbeit mit Partnergruppe planen (For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tageb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 ausarbe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ä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B3B5-11DF-4CAD-88D5-E601B4B061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o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lioth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E1985-8FE2-4988-A930-B88BB6B7DC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ie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ie Projektarb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enverantwortlich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teilung mit der Partnergrup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ln einhal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ge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verantwortung fü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ganze Proje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EA230-032A-4FE7-9936-DFF004B469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Gruppenbildung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Gru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4 Mitglie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ppenlei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munik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CE360-6D4A-43B8-A528-666576A7AA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oru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C738F-3246-40B9-8F29-81DEDF5F6D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Them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32400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th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y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az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em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2089080"/>
            <a:ext cx="324000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eni Riefenst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ra 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arylin Monr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ippi Langstrum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Jeanne d´A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39D2-CAFB-4367-8FA2-28EDBEF3FD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7:54:37Z</dcterms:created>
  <dc:creator>ah</dc:creator>
  <dc:description/>
  <dc:language>en-US</dc:language>
  <cp:lastModifiedBy>ah</cp:lastModifiedBy>
  <dcterms:modified xsi:type="dcterms:W3CDTF">2003-09-29T14:25:02Z</dcterms:modified>
  <cp:revision>22</cp:revision>
  <dc:subject/>
  <dc:title>Folie 1</dc:title>
</cp:coreProperties>
</file>