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0D2B5-CC83-4B02-B170-92E32B91F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D74E5-D734-4648-BCF6-895A6437E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7EAED-56C4-46FE-BB0C-676EEAAC0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6A052-E681-48C8-B041-887A541112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80EAA-4DBD-4E4A-A015-6D677B6ADB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C3E6F-CA37-4EE2-85AC-D4FD35213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1BA95-7EA6-4472-A3C7-A47071D61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634ED-6941-4357-AA0B-4517F7521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8A002-260E-4AF8-9131-586C8CB48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A6335-3E16-460E-8DD8-EE5F2F641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005A7-6F68-4DF5-B588-F92F3F8F7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858B5-23C4-4346-8772-73AF3D9C9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81720"/>
            <a:ext cx="9144000" cy="2160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79280" y="6048360"/>
            <a:ext cx="70164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61760" y="6605640"/>
            <a:ext cx="2376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u und Mythos -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523360" y="6570720"/>
            <a:ext cx="6206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E52B-E87A-414B-B3DB-F8C83599391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9280" y="5040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79280" y="4032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179280" y="3024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179280" y="2016000"/>
            <a:ext cx="701640" cy="9813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179280" y="100800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179280" y="0"/>
            <a:ext cx="70164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133360"/>
            <a:ext cx="7342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Frau und Mythos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63280" y="4005360"/>
            <a:ext cx="593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2002 -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A7263-849E-45E8-B8C6-05F8E86F5C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85228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Zeitpla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16720" y="54936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8DF3B-575F-4901-A652-F4115EB32E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32000" y="27079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Bewertungskriterie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F47D1-35B1-4D58-9961-9B2B4B5720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 durch die beteiligten Lehrpers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sfragebogen für die SchülerIn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wer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-Aktivitä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863F9-DA9A-4A08-A69E-7AB437C846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Projektteam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3A A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B 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2 RG Brune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 RG Me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und mehrere Lehrpers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6F8B6-55E0-4CA0-B111-EAE905C090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Ziele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ssen über alte und neue Mythen erwei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eamarbeit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mmunikation und Kooperation online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elbstverantwortetes Lernen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reativität und Information verbin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äsentieren und Visualisieren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F9535-3380-4706-B17F-24F04E20C4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as ist zu tun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341360"/>
            <a:ext cx="7354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ppen bil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os entwerf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idee entwickel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beitsteilung und Zusammenarbeit mit Partnergruppe planen (For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tageb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 ausarbe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-Dok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ä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245E9-4887-456E-A76B-F5948CB16A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o wird gearbeitet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as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lioth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C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BF4ED-B7B9-4136-8805-62B96CD97B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ie wird gearbeitet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ie Projektarb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genverantwortlichk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beitsteilung mit der Partnergrup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eln einhal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ge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tverantwortung fü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s ganze Projek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17BA3-037A-4465-9FD9-80085828F7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Gruppenbildung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Gru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4 Mitglie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uppenlei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munik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-Dok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5965D-E7CC-4152-959F-BF894EA7FF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920" y="2781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Forum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C89D7-06C7-4491-98FE-9F97776CC2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Theme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2060280"/>
            <a:ext cx="32400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g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yth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yd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az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iem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48360" y="2089080"/>
            <a:ext cx="324000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eni Riefensta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ra 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arylin Monr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ippi Langstrum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Jeanne d´Ar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B05A5-B5AA-4F34-A151-2048B74E6C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" dur="1" fill="hold"/>
                                  <p:tgtEl>
                                    <p:spTgt spid="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7:54:37Z</dcterms:created>
  <dc:creator>ah</dc:creator>
  <dc:description/>
  <dc:language>en-US</dc:language>
  <cp:lastModifiedBy>ah</cp:lastModifiedBy>
  <dcterms:modified xsi:type="dcterms:W3CDTF">2003-09-29T14:25:02Z</dcterms:modified>
  <cp:revision>22</cp:revision>
  <dc:subject/>
  <dc:title>Folie 1</dc:title>
</cp:coreProperties>
</file>